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E93A6-D048-4FF8-B9AA-8109B1CD1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6310-3E72-4F40-BF20-64904E53E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11CA9-8292-46D1-9CEB-76AF39CE3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F4A9-16E5-4A96-ADAD-D44DAF855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2ABCD-337C-4BAB-91B7-B7E93015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CE74B-8178-4185-BFF3-090AF1606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8330-8416-4C46-A574-51A6903DE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593F-54F5-4161-B401-DCBBDCC5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99D1-5028-4404-8810-DF1BD57B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D6B8-E477-4AC6-AC06-4E31131E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6791-4D54-4F2D-9A62-85F045810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F59E-4A0C-45F4-A1B6-9552D02E7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C350-B9C2-413C-AFB9-EB7E7E20DE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1440000" cy="1439640"/>
          </a:xfrm>
          <a:prstGeom prst="rect">
            <a:avLst/>
          </a:prstGeom>
          <a:ln w="0">
            <a:noFill/>
          </a:ln>
        </p:spPr>
      </p:pic>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9</cp:lastModifiedBy>
  <dcterms:modified xsi:type="dcterms:W3CDTF">2004-10-29T01:48:12Z</dcterms:modified>
  <cp:revision>49</cp:revision>
  <dc:subject/>
  <dc:title>SALARIUL</dc:title>
</cp:coreProperties>
</file>